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CFB-46A5-48E9-A0A3-3444F981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797-6E61-4EE4-B2B8-5439E67C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321C-2C69-4961-97D2-5C0FA58D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34C-2A4E-47FB-AB05-1C273786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A131-96AA-4334-BB01-3C223F38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E320-2533-48B9-855B-C79F06BA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BEF0-B1CF-415C-82FF-71DEE7EE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760B-A4E2-4D86-A7B1-EE6A8463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5D90-7910-40DC-952D-345DA0CA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430A-1B8B-4B75-BDE4-17CB9D59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22F8-C39C-41C9-B0B5-43C5CD95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60A-CA1F-408E-BDB4-B6B075F4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A694-CB9C-41CA-A19E-FFEA2925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DACB-3C42-4056-98D6-4DB726D3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70B1-148B-4C5D-8F23-E2326C54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A31D-2AF0-4AB7-9C96-BF8FCBCE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FDF6-DA0E-476A-A0C2-551F17B3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0E3-8CF0-481C-B16A-EF7C9F92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F4D-6A7D-4956-BF8B-4D3EA790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1A6-5D93-446C-8F31-04CA899D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494-3C81-4517-967F-FD3154E1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86D-4968-41DC-8A44-D7D12645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9BE-4ACF-4125-ACEE-0194BEA9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514-E255-4C25-BCC8-5FE16A67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9E86-FD5D-46AC-ADF1-95BC1C064C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09FA-E894-4AC2-B364-1A0603262C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doriani@springboro.org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ienvenido al Tercer Grado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lase de Miss Oriani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rto 22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emát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 empezar – entrenamos con addicion y subtracc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bro Estudiantil de Refere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sar al inicio, pero mas dificil en el tercer y quarto cuartom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CHOS DE MULTIPLICACION – si su estudiante ya sabe hacer adicion y subtraccion, hay que empezar multiplicacio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media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8334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ub de Lectura, Club de Matematicas, Tutorias Privad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y a ofrecer varios clubes y tutorias para los estudia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upo de matematicas -  4:00-5:00 los lu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ub de Lectura – 4:00-5:00 los jue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iones de tutorias privadas antes y despues de cl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 puede inscribir su hijo cada capitu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20 para cada niño para cada gru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 haga dos grupos, seria $15 cada gru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utorias privadas – si su hijo tiene problemas graves - $30 para cada ho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9480" cy="12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010280" y="5181480"/>
            <a:ext cx="12733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ub de Cienci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su hijo LE ENCANTAN las ciencias, me gustaria empezar un club para ell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pues de clases – una vez a la sema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15 para cada estudiante, cada sema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gamos proyectos por internet con otros estudiantes de todos partes del mund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o Contactar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 favor, siempre me pueden contact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EMPRE con e-mail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doriani@springboro.or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reviso cada dia muchas veces y cuando me voy a dormir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quiere hacer conferencia conmigo, me puede hacer una ci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as extras que ocupamo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peta de una pulg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sores para las carp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rjetas blan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 rollo de mask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aderno para escribir con tres seccio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nato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piadora de venta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pices de mar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rjetas blancas brilla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iodicos y revistas con graf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n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rs con tinta perman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petas de todos tip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estra Met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amos aqui para trabajar juntos para el exito de su niño en el tercer grado, asi que vamos a tener un año buenisimo juntos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76720" y="3657600"/>
            <a:ext cx="3124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gundo al Tercer Grado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lto gran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ctaciones alt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cipacion del estudia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nos tare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 independencia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6294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Regla de T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olvidan las tareas – la primera y segunda vez, el estudiante tiene que tener conferencia con la profeso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tercer vez, el estudiante tiene que tener conferencia con la profesora y el dire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uarta vez, el estudiante tiene que quedarse despues de las clases con el director para cumplir sus tar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ponsabilides durante el Trabajo de la Mañana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ntrate en la ? – Hay que explicar con palabr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ografia diario mas los qui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ntastic Five (preguntas de matemáticas) mas los qui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critura de ciencias y estudios socia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bajo gramatica (hay que trabajar a veces en la casa con los nombres, descripciones, y m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ller de la Lectura/Escritu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ás de la lectura y escritu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ciónes personales del estudia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y que ver el papel de los estudian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705720" y="51055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etre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as Individuales Para el Deletre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dos tienen el mismo pre-examen cada se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y que guardar las palabras que no se deletrean bi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gir sus propios palabras desde examenes pasados o se pueden elegir palabras que tienen algo que ver con la tema seme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 favor REVISE sus palabras para ASEGURAR que lo deletrearon bi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121932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bilidades Semenales Que Hacemos en la Escuel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ctura/Idio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as gramati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as del deletre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de ciencias y estudios socia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y que regalarlo cada jue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samos jun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iz de temas gramaticas y del deletreo cada sema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62940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ctu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vez, y un gran salto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ctura independente (que va a la casa solamente si el horario de la semana esta llen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diendo a preguntas – por favor, vea a la pagina de pregunt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irculo quien, que, cuando, donde, y para que, Responde a pregunta A, y tambien partes 2,3,4 de las pregunta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MIR!! (que vea la pagina sobre resumen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CABULA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343400" y="4952880"/>
            <a:ext cx="274320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CRITU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ses Primeras (ideas grand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-4 detal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se para termin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pezamos a escribir en parraf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ra vez, hay que hacer muchos resumenes en el tercer gr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14479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25:11Z</dcterms:created>
  <dc:creator>doriani</dc:creator>
  <dc:description/>
  <dc:language>en-US</dc:language>
  <cp:lastModifiedBy>doriani</cp:lastModifiedBy>
  <dcterms:modified xsi:type="dcterms:W3CDTF">2009-05-11T19:34:59Z</dcterms:modified>
  <cp:revision>9</cp:revision>
  <dc:subject/>
  <dc:title>Welcome to Third Grade!</dc:title>
</cp:coreProperties>
</file>